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BB43-B68A-4680-861E-42D9ECE7A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CB9B-5C8A-44E7-B6B2-952B61EB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9F6E-154B-4DF8-96AB-57D1DD8EC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B6B8-9C08-4CAC-A958-EDAA46F8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DE95-7AF0-4737-8CE8-4A91381F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DBD-548C-46E3-AFE5-379AA1723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4520-B007-46EB-A240-F200FC36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C1A-EA9B-43CE-A4F8-59D0D7E3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5F45-CEC8-4E2F-8711-799EE9E0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533-20F1-4C17-9E13-33F142F11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C01A-688B-497F-89B8-296CD7900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77CE-53ED-4235-AC5F-B3FB9ABA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1167-622E-4BB4-A1BF-9A8F35372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552-5F89-4871-BD04-7791CC1A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56A-3252-48F2-9C2A-68B66C64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08E-432F-43B7-BE57-A9B26F74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8607-AD4A-411E-B739-C924F98B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ACF1-BA33-451F-A602-52E73F29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DB2-5215-4DAD-819D-E7F42BE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B76-31CB-4407-B7AC-A79C9AA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465-E66B-4DD1-B98C-7C3486BD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E3D-4085-488E-91D0-8EABECD7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6544-48DE-4617-8966-94DB91AC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4C2F-C4F8-4988-AA19-150C0DFF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E4CA-671E-479E-9644-5AF2F7B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807C-CA71-43F9-8A7F-78CB637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AF12-4458-4179-9A76-067B5F0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366-A3AE-450A-9BAB-134E325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8A4D-1CC6-415A-8B47-A3FD0E1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0F5-C90E-42D0-BED7-C7DFE029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7DDF-A81E-4E18-BA9E-ED938DB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EB10-5B15-4D82-B880-D30DD5C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CDA7-7E39-4A6B-A09A-802CF466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0D48-6D4C-461D-9097-03D76A6F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60C7-12C5-4ADF-A724-A4B81138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2B621-8F9A-4072-9242-76CAD116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ADA5B-7418-4DCF-BC27-D31E38BA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9FB83-889F-40D8-9EC3-282453BF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46232-9E9C-4599-B3E7-7566A289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6A357-4D39-491D-9688-F543424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CA8-D464-4AFD-9EA3-1028F82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D3C34-5924-4CC0-A40C-12B2CCC2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464ED-D424-4416-A66A-C4D3C03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26146-EC35-41D2-B975-22C6CF4F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A4FD8-0CD2-4060-B93B-190CB5D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620E8-83B7-4C54-BF7B-797DC45A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F9FD3-0DBB-4874-93D1-6B0B3F95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C4A3E-0B81-4D2E-B6B3-F2E8F311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7CDD-F39F-41D7-BA87-2D4F18D1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F615-B3F3-448F-A4FD-F983EF7F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2D0F-8248-4C78-A74E-B9E7E951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9EF-BC69-42F4-9BB8-AFC0480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B84E-F573-4377-B5C8-3576758D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DBD9-DC03-4066-8CFE-9E92975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161B-8034-4189-A899-6DB918D0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55E9-BD59-4960-98E6-E6A837D0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F187-0B10-405F-89F1-B3EA50D3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7F69-ED6E-43D0-8E6D-F89777F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AD81-8754-43A7-8AC4-7E4F2884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8435-4D03-42BA-870A-252A2729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5A04-0A99-441F-9528-A4E6DA2C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8E2-D54A-4C81-8149-49ED95C4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F3A-AD94-4062-90AD-53B2BDBA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30E-A729-4836-AA8F-6128C63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2FC-60A8-4685-8C2F-CF80026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8CD-BB07-4E5D-9095-FAAAAF2D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2D01-E2F4-49EB-B005-6EE0398AD1C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A6B-70E6-4032-A5D4-F505E62A8BBC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AB9-9132-42CD-9155-176812C24DA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A792-5FF5-4A21-887D-0FB782A0B0D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Math/venn/PracVenn.ht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aea25"/>
                </a:solidFill>
                <a:latin typeface="Century Gothic"/>
              </a:rPr>
              <a:t>2-4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480" y="3355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800080"/>
                </a:solidFill>
                <a:latin typeface="Bradley Hand ITC"/>
              </a:rPr>
              <a:t>Venn Diagrams &amp;</a:t>
            </a:r>
            <a:endParaRPr b="0" lang="en-US" sz="5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800080"/>
                </a:solidFill>
                <a:latin typeface="Bradley Hand ITC"/>
              </a:rPr>
              <a:t>Deductive Reasoning</a:t>
            </a:r>
            <a:endParaRPr b="0" lang="en-US" sz="5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Slide Number Placeholder 1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AFF6-921F-4757-B70F-BC43F7222F8B}" type="slidenum">
              <a:rPr b="0" lang="en-US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468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685a"/>
                </a:solidFill>
                <a:latin typeface="Century Gothic"/>
              </a:rPr>
              <a:t>More Venn Practice Problem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1760" y="1600200"/>
            <a:ext cx="755316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wenty-four members of Mu Alpha Theta went to a Mathematics conferenc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ne-third of the members ran cross country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ne sixth of the members were on the football team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ree members were on cross country and football teams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rest of the members were in the band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many were in the band?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1676520" y="457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DF42-71D5-4130-BA17-AA5EB79CD08F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Challeng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1320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275-EE52-40AA-A1C5-AF7504403F4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8DE-103D-490D-94F9-13E06C88D60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686520" y="2971800"/>
            <a:ext cx="79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http://regentsprep.org/Regents/Math/venn/PracVenn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AE2-3530-4215-84B3-D742E3B010A4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the Contrapositive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295280" y="167652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1685a"/>
                </a:solidFill>
                <a:uFillTx/>
                <a:latin typeface="Book Antiqua"/>
              </a:rPr>
              <a:t>Law of the Contra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conditional statement and its contrapositive are either both true or both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1685a"/>
                </a:solidFill>
                <a:uFillTx/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trapositive of p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~ q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~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0DCE-A353-4BDE-9B30-0CF15AEBA8B9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7907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the Contrapositive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n angle measures 45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  <a:ea typeface="Times New Roman"/>
              </a:rPr>
              <a:t>º, then it is acute. (a true statement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n angle is not acute, then it does not measure 45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  <a:ea typeface="Times New Roman"/>
              </a:rPr>
              <a:t>º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7E5E-F299-4ECA-9602-BA4998DEFA8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07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the Contrapositive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t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a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4666-9BD2-44D1-9B81-1816A89C5B70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9200" y="274320"/>
            <a:ext cx="6377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76160" y="1767960"/>
            <a:ext cx="7261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true conditional statement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an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 hypothesis occu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at the conclusion will also occ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1FF-1813-49A8-8358-2E93DD67EF5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6051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 dog eats biscuits, then he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do eats biscui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do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3E39-52C4-4F55-8D4A-963D73586457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051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 dog eats biscuits, then he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do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 conclu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6D32-7252-44FE-8327-B64A50DCD914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90360" y="2362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agram that shows relationships between different sets of dat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an represent conditional state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Every point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IN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the circl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belongs to that se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Every point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OUT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of the circl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does not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D0B0-3775-4224-B854-9566BC04FEAE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6051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If a dog eats biscuits, then he is happy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Fido is not happy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member the contrapositiv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If a dog is not happy, then he doesn’t eat biscuits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Fido does not eat biscuits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5637240" y="15033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2B51-9A08-42A1-ACE3-1C686281B86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6051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ll humans are mortal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Socrates is a human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refore, Socrates is morta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A38-2264-4CB8-A728-F37DBBBBBCE2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051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ll humans are mortal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Socrates is mortal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 conclu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(Socrates could be a dog or any other mortal being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6F44-C938-4A2C-9844-455B6A7ACC6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7236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You are given: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Those who choose Tint-and-Trim Hair Salon have impeccable taste.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You have impeccable taste.</a:t>
            </a:r>
            <a:r>
              <a:rPr b="0" lang="en-US" sz="36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Can you conclude anything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99072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E8A-5994-4262-A201-73CD49006AC1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727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9200" y="1768320"/>
            <a:ext cx="4921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q is tru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 is giv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q is tru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4439520" y="3219480"/>
            <a:ext cx="36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Symbol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E3B5-3AAA-4F2B-957F-5321951F484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19320" y="16761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Two true conditional statements </a:t>
            </a:r>
            <a:r>
              <a:rPr b="1" i="1" lang="en-US" sz="2800" spc="-1" strike="noStrike">
                <a:solidFill>
                  <a:srgbClr val="3e3d2d"/>
                </a:solidFill>
                <a:latin typeface="Century Gothic"/>
              </a:rPr>
              <a:t>and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the conclusion of the first is the hypothesis of the second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that if the hypothesis of the first occurs, then the conclusion of the second will also occu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CC7-5E8E-48E6-A0E9-D96503542F9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/>
          <p:cNvSpPr/>
          <p:nvPr/>
        </p:nvSpPr>
        <p:spPr>
          <a:xfrm>
            <a:off x="1230480" y="3733920"/>
            <a:ext cx="5715000" cy="45720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/>
          <p:cNvSpPr/>
          <p:nvPr/>
        </p:nvSpPr>
        <p:spPr>
          <a:xfrm rot="3900000">
            <a:off x="2476080" y="2095200"/>
            <a:ext cx="381240" cy="2895480"/>
          </a:xfrm>
          <a:prstGeom prst="downArrow">
            <a:avLst>
              <a:gd name="adj1" fmla="val 50000"/>
              <a:gd name="adj2" fmla="val 189873"/>
            </a:avLst>
          </a:pr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1295280" y="2514600"/>
            <a:ext cx="2743200" cy="53352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510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218960" y="18288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it rains today, then we will not have a picnic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we do not have a picnic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we will not see our friend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it rains today, then we will not see our friend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5977440" y="165888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Callout 1"/>
          <p:cNvSpPr/>
          <p:nvPr/>
        </p:nvSpPr>
        <p:spPr>
          <a:xfrm>
            <a:off x="6945480" y="2651040"/>
            <a:ext cx="2286000" cy="1676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What is rep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3"/>
          <p:cNvSpPr/>
          <p:nvPr/>
        </p:nvSpPr>
        <p:spPr>
          <a:xfrm>
            <a:off x="4191120" y="2759040"/>
            <a:ext cx="2754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10"/>
          <p:cNvSpPr/>
          <p:nvPr/>
        </p:nvSpPr>
        <p:spPr>
          <a:xfrm>
            <a:off x="1295280" y="3068640"/>
            <a:ext cx="1600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12"/>
          <p:cNvSpPr/>
          <p:nvPr/>
        </p:nvSpPr>
        <p:spPr>
          <a:xfrm>
            <a:off x="1066680" y="355284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6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0445-FCCD-4E40-9D6C-DF55170C3BC6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7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Recall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62120" y="17521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=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 = 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What is the conclusio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= 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The name of this algebra property is th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T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TextBox 1"/>
          <p:cNvSpPr/>
          <p:nvPr/>
        </p:nvSpPr>
        <p:spPr>
          <a:xfrm>
            <a:off x="1905120" y="5334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NSITIV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ABCE-5D84-4FFC-BA6D-0490303D05B7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/>
          <p:cNvSpPr/>
          <p:nvPr/>
        </p:nvSpPr>
        <p:spPr>
          <a:xfrm>
            <a:off x="1295280" y="5486400"/>
            <a:ext cx="2895840" cy="762120"/>
          </a:xfrm>
          <a:custGeom>
            <a:avLst/>
            <a:gdLst>
              <a:gd name="textAreaLeft" fmla="*/ 506520 w 2895840"/>
              <a:gd name="textAreaRight" fmla="*/ 2099520 w 289584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168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7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62120" y="175248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q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What is the conclusio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First, make a chai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1600200" y="48006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3505320" y="48006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1547280" y="472428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2994120" y="472428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6572160" y="3505320"/>
            <a:ext cx="140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p </a:t>
            </a:r>
            <a:r>
              <a:rPr b="1" lang="en-US" sz="4000" spc="-1" strike="noStrike">
                <a:solidFill>
                  <a:srgbClr val="71685a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4BDD-F1D5-42FC-8298-1AC7801CCCF0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1295280" y="4267080"/>
            <a:ext cx="5715000" cy="45720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219320" y="25146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510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218960" y="18288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the dog chases the cat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the cat will run.         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the cat runs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the mouse will laugh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the dog chases the cat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the mouse will laugh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5977440" y="165888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"/>
          <p:cNvSpPr/>
          <p:nvPr/>
        </p:nvSpPr>
        <p:spPr>
          <a:xfrm rot="3900000">
            <a:off x="3581280" y="1218960"/>
            <a:ext cx="304920" cy="4572000"/>
          </a:xfrm>
          <a:prstGeom prst="downArrow">
            <a:avLst>
              <a:gd name="adj1" fmla="val 50000"/>
              <a:gd name="adj2" fmla="val 374852"/>
            </a:avLst>
          </a:pr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7623-D492-4647-99D0-9CEEE702DD8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0880" y="1610640"/>
            <a:ext cx="87631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l Americans love hot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 Martians are gre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 Martians are Americ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3276720" y="25146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2971800" y="2362320"/>
            <a:ext cx="5867280" cy="914400"/>
          </a:xfrm>
          <a:prstGeom prst="roundRect">
            <a:avLst>
              <a:gd name="adj" fmla="val 16667"/>
            </a:avLst>
          </a:prstGeom>
          <a:solidFill>
            <a:srgbClr val="ffa94a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ho love hot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82440" y="60912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Practice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457200" y="3886200"/>
            <a:ext cx="3809880" cy="838080"/>
          </a:xfrm>
          <a:prstGeom prst="ellipse">
            <a:avLst/>
          </a:prstGeom>
          <a:solidFill>
            <a:srgbClr val="94c6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3200400" y="3886200"/>
            <a:ext cx="4648320" cy="838080"/>
          </a:xfrm>
          <a:prstGeom prst="ellipse">
            <a:avLst/>
          </a:prstGeom>
          <a:solidFill>
            <a:srgbClr val="ffa94a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n A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533520" y="5638680"/>
            <a:ext cx="3809880" cy="838440"/>
          </a:xfrm>
          <a:prstGeom prst="ellipse">
            <a:avLst/>
          </a:prstGeom>
          <a:solidFill>
            <a:srgbClr val="94c6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495680" y="5486400"/>
            <a:ext cx="4191120" cy="1066680"/>
          </a:xfrm>
          <a:prstGeom prst="ellipse">
            <a:avLst/>
          </a:prstGeom>
          <a:solidFill>
            <a:srgbClr val="ffa94a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130A-0BB4-4AA3-A912-53E3B516CD37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37720" y="1371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Exampl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you give a mouse a cooki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he’s  going to ask for a glass of milk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you give him the milk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then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he’ll probably ask you for a straw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you give a mouse a cooki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then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he’ll probably ask you for a straw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B699-EDF3-4C33-B4F2-FF3E816429D4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1752480" y="5638680"/>
            <a:ext cx="6248520" cy="685800"/>
          </a:xfrm>
          <a:custGeom>
            <a:avLst/>
            <a:gdLst>
              <a:gd name="textAreaLeft" fmla="*/ 1093320 w 6248520"/>
              <a:gd name="textAreaRight" fmla="*/ 4530240 w 6248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168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1676520" y="50292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6705720" y="49528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4760" y="533520"/>
            <a:ext cx="79088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66320" y="18288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t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~ 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s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~ q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What is the conclusio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rst find each contrapositiv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ext, make a chai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5638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257800" y="21337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~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1623600" y="495288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3224880" y="495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442040" y="49528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~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12080" y="487692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7104960" y="3733920"/>
            <a:ext cx="148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p </a:t>
            </a:r>
            <a:r>
              <a:rPr b="1" lang="en-US" sz="4000" spc="-1" strike="noStrike">
                <a:solidFill>
                  <a:srgbClr val="71685a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5A1B-0391-4ED0-9C63-3F8E272C8C1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44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8a44d"/>
                </a:solidFill>
                <a:latin typeface="Century Gothic"/>
              </a:rPr>
              <a:t>G1: Venn Diagra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63080" y="1295280"/>
            <a:ext cx="875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ll A’s are B’s.  Some A’s are B’s. No A’s are B’s.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  Some B’s are A’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380880" y="2743200"/>
            <a:ext cx="2438640" cy="2743200"/>
          </a:xfrm>
          <a:prstGeom prst="ellipse">
            <a:avLst/>
          </a:prstGeom>
          <a:solidFill>
            <a:srgbClr val="956b43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066680" y="4267080"/>
            <a:ext cx="1067040" cy="1067040"/>
          </a:xfrm>
          <a:prstGeom prst="ellipse">
            <a:avLst/>
          </a:prstGeom>
          <a:solidFill>
            <a:srgbClr val="008080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6400800" y="3276720"/>
            <a:ext cx="1066680" cy="1066680"/>
          </a:xfrm>
          <a:prstGeom prst="ellipse">
            <a:avLst/>
          </a:prstGeom>
          <a:solidFill>
            <a:srgbClr val="008080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7620120" y="3276720"/>
            <a:ext cx="1066680" cy="1066680"/>
          </a:xfrm>
          <a:prstGeom prst="ellipse">
            <a:avLst/>
          </a:prstGeom>
          <a:solidFill>
            <a:srgbClr val="fea022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95680" y="2895480"/>
            <a:ext cx="1600200" cy="1600200"/>
          </a:xfrm>
          <a:prstGeom prst="ellipse">
            <a:avLst/>
          </a:prstGeom>
          <a:solidFill>
            <a:srgbClr val="71685a">
              <a:alpha val="71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3352680" y="2895480"/>
            <a:ext cx="1600200" cy="1600200"/>
          </a:xfrm>
          <a:prstGeom prst="ellipse">
            <a:avLst/>
          </a:prstGeom>
          <a:solidFill>
            <a:srgbClr val="008080">
              <a:alpha val="56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2"/>
          <p:cNvSpPr/>
          <p:nvPr/>
        </p:nvSpPr>
        <p:spPr>
          <a:xfrm>
            <a:off x="3200400" y="1523880"/>
            <a:ext cx="0" cy="4572000"/>
          </a:xfrm>
          <a:prstGeom prst="line">
            <a:avLst/>
          </a:prstGeom>
          <a:ln w="255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>
            <a:off x="6172200" y="1523880"/>
            <a:ext cx="0" cy="4572000"/>
          </a:xfrm>
          <a:prstGeom prst="line">
            <a:avLst/>
          </a:prstGeom>
          <a:ln w="255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4"/>
          <p:cNvSpPr/>
          <p:nvPr/>
        </p:nvSpPr>
        <p:spPr>
          <a:xfrm>
            <a:off x="857160" y="57150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, then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CBA-9E32-4FFF-99E7-17D73BEE6D4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8a44d"/>
                </a:solidFill>
                <a:latin typeface="Century Gothic"/>
              </a:rPr>
              <a:t>Typical Venn Diagram proble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2579760" y="1527120"/>
            <a:ext cx="3948120" cy="457200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A17A-85FC-442B-BC32-7331D2C7EA6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Practice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rcRect l="6243" t="0" r="23412" b="40858"/>
          <a:stretch/>
        </p:blipFill>
        <p:spPr>
          <a:xfrm>
            <a:off x="0" y="251460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376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8544-B52E-4202-989A-ACFBC69DD50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02D-3AC2-44B2-ACCE-67ED501187F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720" y="583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Practice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rcRect l="6214" t="0" r="23304" b="37408"/>
          <a:stretch/>
        </p:blipFill>
        <p:spPr>
          <a:xfrm>
            <a:off x="154080" y="2590920"/>
            <a:ext cx="8989920" cy="3978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"/>
          <p:cNvSpPr/>
          <p:nvPr/>
        </p:nvSpPr>
        <p:spPr>
          <a:xfrm>
            <a:off x="649440" y="12952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685a"/>
                </a:solidFill>
                <a:latin typeface="Century Gothic"/>
              </a:rPr>
              <a:t>Let’s see how this works!</a:t>
            </a:r>
            <a:br>
              <a:rPr sz="3600"/>
            </a:br>
            <a:r>
              <a:rPr b="0" lang="en-US" sz="3600" spc="-1" strike="noStrike">
                <a:solidFill>
                  <a:srgbClr val="71685a"/>
                </a:solidFill>
                <a:latin typeface="Century Gothic"/>
              </a:rPr>
              <a:t>Suppose you are give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413320" y="510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8080200" y="5181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FA06-66A2-4AD5-B8C8-DEF12506422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EE53-894A-40C5-96C7-E3FD9C6398B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chmorgan</cp:lastModifiedBy>
  <dcterms:modified xsi:type="dcterms:W3CDTF">2013-10-07T13:37:23Z</dcterms:modified>
  <cp:revision>97</cp:revision>
  <dc:subject/>
  <dc:title>CHAPTER 3</dc:title>
</cp:coreProperties>
</file>